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4F3-6320-4975-81E8-B15C7071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836-9F3F-44D9-9CB5-89A49F9C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501-D934-45FB-B34B-72FBC6EE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818-C856-44E2-9590-A876481F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060-CE81-49B3-831C-00AC6746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99B-0D98-452E-86E1-946274E3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304-1A21-4BC4-A29D-DC840C41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EA7-E488-4173-A630-AEE06CFC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0C1-7A75-4CB3-8B35-F285954B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077-DC59-4768-9A42-2E925A8F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1F2-D04D-4F6B-8F33-0E9F5660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1712-D9C4-46DD-BAC4-D9DFA2A6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66C0-0E77-43F7-B14C-C74FDB3E0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 Phenome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things that happen in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984240" cy="1855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93080" y="3716280"/>
            <a:ext cx="1792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4395600" cy="504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32000" y="58053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this situation arisen because of a nightmare or a night terr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333360"/>
            <a:ext cx="439236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sleepwalking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r somnambulism, involves walking around and even performing simple tasks while a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ost common in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ay occur in adults particularly at times of high s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generally last 5 - 15 minutes, but can go up to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usually occurs in NREM Stag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eep sleep so often there is little coordination, can bump into things, and incoheren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generally will not be remembered the nex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t is not dangerous to wake a sleep walking although it may be difficult to do so as they are in deep sleep, also they may experience some disorientation waking and finding they are not in 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03640" y="981000"/>
            <a:ext cx="3942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4067280" cy="568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724360" y="141300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it stop sleepwal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3684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92720" y="981000"/>
            <a:ext cx="3600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bout sleep talking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- or somniloquism, involves verbalisation while a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- most often in NREM but may occur in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- usually the sleep talker cannot engage in a coherent conversation as they are preoccupied with their own thoughts and usually in deep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- quite a common occurrenc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4960800" cy="5400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9280" y="141300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coherent sleep tal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87280" y="890640"/>
            <a:ext cx="6409080" cy="480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50920" y="6021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herent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924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06480" y="260280"/>
            <a:ext cx="52167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1125360"/>
            <a:ext cx="74880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leep Phenomena, sometimes called parasomnia, can occur regularly for some people. They are usually of no real concern unless they become a precursor to a sleep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he following table indicates the frequency of some parasom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6696360" cy="4662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47640" y="5805360"/>
            <a:ext cx="58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you work out what each of them 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6696360" cy="466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5445000"/>
            <a:ext cx="69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 = Snoring, ST = Sleep Talking, SW = Sleep Walking, B =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 = Bruxism which means ‘teeth grinding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1557360"/>
            <a:ext cx="720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he sleep phenomena we need to have an understanding of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ightm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ight t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leep walking or somnambu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leep talking or somniloqu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295200"/>
            <a:ext cx="4319640" cy="361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4221000"/>
            <a:ext cx="79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rifying dreams are part of human nature: there are very few persons who have never had a nightmare sometime in life. As the picture above shows, the ancient Greeks even thought that during a nightmare one is dominated by an "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u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 (a small demon) who sits on the dreamer's chest, leading to a sense of suffocation, breath difficulties, a racing and heavy hear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67280" y="549360"/>
            <a:ext cx="4248000" cy="316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620640"/>
            <a:ext cx="360036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nightmares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unpleasant dreams with frightening, upsetting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an be recalled on awak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ccur in REM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ften dreamer is in a situation of helplessness from which there is no e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ne suggestion being that in REM sleep the body is basically stationary (REM par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any people will wake from nightmares and have vivid memories of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nightmares are more common for children than adults, and for females than 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ay be related to personal trau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62064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59280" y="765000"/>
            <a:ext cx="4033800" cy="3527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836640"/>
            <a:ext cx="367200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night terror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udden awakening from sleep in a distresse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little or no recall from the d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usually occur in Stage 3 or 4 NREM, early in the night rather than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n awakening person may be screaming, sweating, looking terrified, breathing rapi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ften children who awake in such a state are difficult to comfort because they can’t recall why they are in such a state, are confused about their surroundings, and may actually perceive the person who is trying to comfort them as the cause of the discomf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22:06:00Z</dcterms:created>
  <dc:creator>DR</dc:creator>
  <dc:description/>
  <dc:language>en-US</dc:language>
  <cp:lastModifiedBy>DR</cp:lastModifiedBy>
  <dcterms:modified xsi:type="dcterms:W3CDTF">2009-04-17T11:41:35Z</dcterms:modified>
  <cp:revision>6</cp:revision>
  <dc:subject/>
  <dc:title>Sleep Phenomenon</dc:title>
</cp:coreProperties>
</file>